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111-5CD5-45EB-A02C-FA4E6E5A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417-C1D4-4285-A07D-E28A3253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B9B-46C3-4234-B0B1-D9E473D0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7C3-684D-49D9-B158-C055BB45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8D5-319F-45FE-B0D7-E2F01AEC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344-62F4-4630-9BAF-27D0F40F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2AC-7342-42C0-9F2C-2C8E021B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7F4-ADF8-4049-8113-78D1ED79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023-0754-4B8F-982B-B2AF2A95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5B5-1601-49C2-996A-467F083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3F0-B2E7-473A-9FBC-B62EB622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225-A5E9-4ECC-B25B-A098064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A9784-EE19-47DC-94EC-A269D9A62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000080"/>
                </a:solidFill>
                <a:uFillTx/>
                <a:latin typeface="Arial"/>
              </a:rPr>
              <a:t>The consequence of the water consommation in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687680"/>
            <a:ext cx="3703680" cy="53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 u="sng">
                <a:solidFill>
                  <a:srgbClr val="000080"/>
                </a:solidFill>
                <a:uFillTx/>
                <a:latin typeface="Arial"/>
              </a:rPr>
              <a:t>USA Consommati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360" y="3060720"/>
            <a:ext cx="52196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pperplate Gothic Bold"/>
              </a:rPr>
              <a:t>The water consommation in the USA is enorm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b80047"/>
                </a:solidFill>
                <a:latin typeface="Copperplate Gothic Bold"/>
              </a:rPr>
              <a:t>  </a:t>
            </a:r>
            <a:r>
              <a:rPr b="1" lang="fr-FR" sz="1800" spc="-1" strike="noStrike">
                <a:solidFill>
                  <a:srgbClr val="b80047"/>
                </a:solidFill>
                <a:latin typeface="Copperplate Gothic Bold"/>
              </a:rPr>
              <a:t>1840 m3  per inhabitants in a yea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80000" y="1963800"/>
            <a:ext cx="445464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36600" y="87915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447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000080"/>
                </a:solidFill>
                <a:uFillTx/>
                <a:latin typeface="Arial"/>
              </a:rPr>
              <a:t>Europ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79640" y="3060720"/>
            <a:ext cx="36003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Impact"/>
              </a:rPr>
              <a:t>Europe consume 180 000 m3 of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72320" y="2076480"/>
            <a:ext cx="3848040" cy="3143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00360" y="5467320"/>
            <a:ext cx="360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23ff23"/>
                </a:solidFill>
                <a:latin typeface="Arial"/>
              </a:rPr>
              <a:t>Italy: 9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6633"/>
                </a:solidFill>
                <a:latin typeface="Arial"/>
              </a:rPr>
              <a:t>Spain: 1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99ff"/>
                </a:solidFill>
                <a:latin typeface="Arial"/>
              </a:rPr>
              <a:t>France: 5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ff00"/>
                </a:solidFill>
                <a:latin typeface="Arial"/>
              </a:rPr>
              <a:t>Germany: 5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K: 2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2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2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000080"/>
                </a:solidFill>
                <a:uFillTx/>
                <a:latin typeface="Arial"/>
              </a:rPr>
              <a:t>Asia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1979640"/>
            <a:ext cx="3600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sian consume 68% of the w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59280" y="1706400"/>
            <a:ext cx="390528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40360" y="5580000"/>
            <a:ext cx="3240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Japan: 7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ff"/>
                </a:solidFill>
                <a:latin typeface="Arial"/>
              </a:rPr>
              <a:t>Vietnam: 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ambodge: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000080"/>
                </a:solidFill>
                <a:uFillTx/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3060720"/>
            <a:ext cx="521964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w Cen MT Condensed Extra Bold"/>
              </a:rPr>
              <a:t>10/20 L per inhabitants in a day</a:t>
            </a:r>
            <a:r>
              <a:rPr b="0" lang="fr-FR" sz="6000" spc="-1" strike="noStrike">
                <a:solidFill>
                  <a:srgbClr val="ffffff"/>
                </a:solidFill>
                <a:latin typeface="Tw Cen MT Condensed Extra Bold"/>
              </a:rPr>
              <a:t>	</a:t>
            </a:r>
            <a:r>
              <a:rPr b="0" lang="fr-FR" sz="6000" spc="-1" strike="noStrike">
                <a:solidFill>
                  <a:srgbClr val="ffffff"/>
                </a:solidFill>
                <a:latin typeface="Tw Cen MT Condensed Extra Bold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00720" y="1697040"/>
            <a:ext cx="4402080" cy="49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5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ff00"/>
                </a:solidFill>
                <a:latin typeface="Arial"/>
              </a:rPr>
              <a:t>Asian and USA are the biggest consummer of water in the wor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ff00"/>
                </a:solidFill>
                <a:latin typeface="Arial"/>
              </a:rPr>
              <a:t>Why 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ff00"/>
                </a:solidFill>
                <a:latin typeface="Arial"/>
              </a:rPr>
              <a:t>Because they are the most populated continents of the wor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ff00"/>
                </a:solidFill>
                <a:latin typeface="Arial"/>
              </a:rPr>
              <a:t>And they have  really bad habitudes (like europ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 u="sng">
                <a:solidFill>
                  <a:srgbClr val="ffffff"/>
                </a:solidFill>
                <a:uFillTx/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0000" y="3780000"/>
            <a:ext cx="539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59280" y="3780000"/>
            <a:ext cx="179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0000" y="3600360"/>
            <a:ext cx="17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19640" y="3600360"/>
            <a:ext cx="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0360" y="3780000"/>
            <a:ext cx="360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0" y="3780000"/>
            <a:ext cx="1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